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13627669"/>
        <c:axId val="54005122"/>
      </c:barChart>
      <c:catAx>
        <c:axId val="13627669"/>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4005122"/>
        <c:crosses val="autoZero"/>
        <c:auto val="1"/>
        <c:lblAlgn val="ctr"/>
        <c:lblOffset val="100"/>
        <c:noMultiLvlLbl val="0"/>
      </c:catAx>
      <c:valAx>
        <c:axId val="5400512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3627669"/>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73B69-BE09-4343-A005-67A153187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3674F-D259-4EF2-9F91-B4EB78D8C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E40A4-1C14-4883-BDF7-7F269ABEB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80F96-022B-49D8-B191-AC285B956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E188A-7373-44CB-B01F-E39ABC3B1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1E8A1-A4AB-4A5F-A2FF-16F65B589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F5CB6-0E0A-42A6-BB2C-5D65C6030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AAB0C-B44F-445D-9B98-49338B701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2A728-71EF-4900-8C0D-62FD6EBF5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3F30D-EA00-42CE-9C32-E7F3C9260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8E379-BCFA-4404-9E4C-BE1AFB13E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4CECE-174F-47B0-882C-269D36265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46B1D-3763-428F-B849-5D0E16F6E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1CED3-3362-4FA5-8DF0-0DA0462C9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EF573-21BD-4C59-929E-EAE85C46B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4BF9F-EADB-422F-9245-FEDD0C119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50FCC-59E9-4493-BC6A-2CCD0FC2C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02F06-D310-4264-9187-0EA24F298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37350-21D0-49AB-B7A2-D5D35F8A9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7001A-D8EF-4223-8C54-7D6AFEFB8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2030-D5C1-49BB-ACC5-444A6B7D4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1CE65-5569-4F46-88F4-02FF821C2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D633E-112E-4F4B-BC85-41860C649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D553B-C12F-45E9-A776-91F4508B6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35B34C-EFCF-4BCE-9AFC-A5B1A68AED7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D6C47E-03FD-4FE3-B097-19F618F6466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