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3477574"/>
        <c:axId val="64131263"/>
      </c:barChart>
      <c:catAx>
        <c:axId val="3347757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4131263"/>
        <c:crosses val="autoZero"/>
        <c:auto val="1"/>
        <c:lblAlgn val="ctr"/>
        <c:lblOffset val="100"/>
        <c:noMultiLvlLbl val="0"/>
      </c:catAx>
      <c:valAx>
        <c:axId val="6413126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347757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8EFA-AC82-4DFB-989A-232D80E6F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B8FD-E4C9-414B-8B58-F9ED26376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CD7E4-C428-4F1F-BD7A-7CC161613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09F39-5CCD-491B-8F94-6318A43FA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B2BE7-C731-42FA-9D34-1577486A6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2F12A-57A3-4B6C-9513-D85197A4D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9C7F-FB23-43F9-B086-338C21AF0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8782B-BCAA-4E2B-8EEB-F7142CEE1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635D4-C79B-428F-9C44-EEACCFBC3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71A5D-0BBC-4F35-9BC2-A8A6CFA1C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7F596-32F0-47E4-80F7-BEC5ABEBC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9E8E-F3D6-482D-9CE0-25EAA6B3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B3BAB-6C3F-4541-BEE8-5AB554B54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FC0D5-40AD-4BFD-B210-19016061B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04ED0-9225-4BF2-9C38-C454950DE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0800B-23AC-4645-8624-D051C7625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A2203-DDD2-40FC-A2AA-80B89EF2A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8CE02-34D4-455D-BDEA-22F165C7B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059D-B3D1-47F4-8F2C-1892CD261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A8803-12C9-4CFD-98A5-63666A19D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F0B6F-D842-4DFE-B815-12F051D4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AC0E-059F-4E89-A502-C9FB9A93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95D2C-3AAB-46A2-84BB-3FC326FB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4EE7C-FAAD-43FC-98A0-73307F26F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A3A5A-CD34-4B92-9D92-F5C47AC9BBA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68A6D-E558-418F-912E-9EB04FD57D6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