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7989867"/>
        <c:axId val="70450584"/>
      </c:barChart>
      <c:catAx>
        <c:axId val="6798986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0450584"/>
        <c:crosses val="autoZero"/>
        <c:auto val="1"/>
        <c:lblAlgn val="ctr"/>
        <c:lblOffset val="100"/>
        <c:noMultiLvlLbl val="0"/>
      </c:catAx>
      <c:valAx>
        <c:axId val="7045058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798986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D144E-2AC7-4FA5-8580-FBD128D15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49D3B-69AD-4644-8631-5622D12EE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D6981-2563-4D1D-899D-4C7C71C9D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31107-D957-4D56-AC2E-8092CEAA0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BB2E4-F32E-4824-9177-4296A3244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17B83-C48D-4327-B1FF-2B09FDA45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51A45-279F-4FB4-9842-7925CC91A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11C0A-5B1F-42C9-BE13-D3179AD3D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12307-94F1-46B9-B1A0-FBE1208B4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C3669-C38B-4485-8F58-C58E4777F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091E5-C222-41D6-A3BB-373B92122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47A8C-5148-4D12-AA23-B8906719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D5CFB-9EFF-4AFB-AA55-19E9029C9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1F80F-9B03-4E2E-A08E-495C9A4B4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87EC1-F520-402D-A5E5-91AA6D002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8D155-1789-4B49-9FDA-B4D4B6ADB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8D5BA-2569-4D44-A587-0CD82F7E6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3FB05-A376-4A81-BED4-DE6692DF7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CC514-6B7B-4368-959E-7526774A3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7C3F-9AD0-498A-9FE1-36276E6C8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C634B-A69F-4C48-86E2-C203863B2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A34E7-6110-4983-A6F3-BA366D546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5129E-DC6C-4EE9-B271-5D732FC1F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7108-24D6-4829-8071-941FD586E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48A54E-C0EC-480B-9298-312D5A4B596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47452A-ACFF-4566-ABEA-6D24B9DFD6A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